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536661" descr="图片1000"/>
          <p:cNvPicPr/>
          <p:nvPr/>
        </p:nvPicPr>
        <p:blipFill>
          <a:blip r:embed="rId3"/>
          <a:stretch/>
        </p:blipFill>
        <p:spPr>
          <a:xfrm>
            <a:off x="3457440" y="739800"/>
            <a:ext cx="4810320" cy="285840"/>
          </a:xfrm>
          <a:prstGeom prst="rect">
            <a:avLst/>
          </a:prstGeom>
          <a:ln w="0">
            <a:noFill/>
          </a:ln>
        </p:spPr>
      </p:pic>
      <p:sp>
        <p:nvSpPr>
          <p:cNvPr id="38" name="矩形 536644"/>
          <p:cNvSpPr/>
          <p:nvPr/>
        </p:nvSpPr>
        <p:spPr>
          <a:xfrm>
            <a:off x="3510000" y="773280"/>
            <a:ext cx="106200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矩形 536650"/>
          <p:cNvSpPr/>
          <p:nvPr/>
        </p:nvSpPr>
        <p:spPr>
          <a:xfrm>
            <a:off x="1917720" y="542880"/>
            <a:ext cx="1434960" cy="380880"/>
          </a:xfrm>
          <a:prstGeom prst="rect">
            <a:avLst/>
          </a:prstGeom>
          <a:solidFill>
            <a:srgbClr val="bbe0e3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矩形 536664"/>
          <p:cNvSpPr/>
          <p:nvPr/>
        </p:nvSpPr>
        <p:spPr>
          <a:xfrm>
            <a:off x="4608360" y="773280"/>
            <a:ext cx="106236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矩形 536665"/>
          <p:cNvSpPr/>
          <p:nvPr/>
        </p:nvSpPr>
        <p:spPr>
          <a:xfrm>
            <a:off x="5724360" y="773280"/>
            <a:ext cx="106236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矩形 536666"/>
          <p:cNvSpPr/>
          <p:nvPr/>
        </p:nvSpPr>
        <p:spPr>
          <a:xfrm>
            <a:off x="6840360" y="773280"/>
            <a:ext cx="87948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368675"/>
          <p:cNvSpPr/>
          <p:nvPr/>
        </p:nvSpPr>
        <p:spPr>
          <a:xfrm>
            <a:off x="1101600" y="1994040"/>
            <a:ext cx="6940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圆柱的表面积</a:t>
            </a:r>
            <a:endParaRPr b="1" lang="en-US" sz="4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2" name="Picture 5" descr="2004121511115859383"/>
          <p:cNvPicPr/>
          <p:nvPr/>
        </p:nvPicPr>
        <p:blipFill>
          <a:blip r:embed="rId1"/>
          <a:stretch/>
        </p:blipFill>
        <p:spPr>
          <a:xfrm>
            <a:off x="19080" y="4229280"/>
            <a:ext cx="90993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文本框 1015809"/>
          <p:cNvSpPr/>
          <p:nvPr/>
        </p:nvSpPr>
        <p:spPr>
          <a:xfrm>
            <a:off x="254160" y="1679400"/>
            <a:ext cx="86198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一个圆柱切成完全相同的两半，两个半圆柱的表面积和与原来的圆柱表面积相比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增加了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减少了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无法判断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用一块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8.8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宽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5.7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的长方形为侧面，配上、下面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圆形正好做一个圆柱体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r=6             B.r=3            C.r=5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9" name="文本框 1015812"/>
          <p:cNvSpPr/>
          <p:nvPr/>
        </p:nvSpPr>
        <p:spPr>
          <a:xfrm>
            <a:off x="2987640" y="2146680"/>
            <a:ext cx="603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0" name="文本框 1015813"/>
          <p:cNvSpPr/>
          <p:nvPr/>
        </p:nvSpPr>
        <p:spPr>
          <a:xfrm>
            <a:off x="752400" y="3645360"/>
            <a:ext cx="603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文本框 1047553"/>
          <p:cNvSpPr/>
          <p:nvPr/>
        </p:nvSpPr>
        <p:spPr>
          <a:xfrm>
            <a:off x="244440" y="2062080"/>
            <a:ext cx="86202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一个圆柱的侧面展开得到一个边长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的正方形，这个圆柱的侧面积是（  ）平方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16              B.50.24       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100.48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2" name="文本框 1047554"/>
          <p:cNvSpPr/>
          <p:nvPr/>
        </p:nvSpPr>
        <p:spPr>
          <a:xfrm>
            <a:off x="1763640" y="2527560"/>
            <a:ext cx="1349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1048577"/>
          <p:cNvSpPr/>
          <p:nvPr/>
        </p:nvSpPr>
        <p:spPr>
          <a:xfrm>
            <a:off x="254160" y="1698480"/>
            <a:ext cx="86198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选词填空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表面积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侧面积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底面积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求一圆柱形粮仓的占地面积是求 （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做一个圆柱形油桶用铁皮是求 （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求压路机的压地面积是求 （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4" name="文本框 1048578"/>
          <p:cNvSpPr/>
          <p:nvPr/>
        </p:nvSpPr>
        <p:spPr>
          <a:xfrm>
            <a:off x="5180040" y="2696040"/>
            <a:ext cx="739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5" name="文本框 1048579"/>
          <p:cNvSpPr/>
          <p:nvPr/>
        </p:nvSpPr>
        <p:spPr>
          <a:xfrm>
            <a:off x="4900680" y="3191400"/>
            <a:ext cx="739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6" name="文本框 1048580"/>
          <p:cNvSpPr/>
          <p:nvPr/>
        </p:nvSpPr>
        <p:spPr>
          <a:xfrm>
            <a:off x="4329000" y="3699360"/>
            <a:ext cx="739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文本框 1049601"/>
          <p:cNvSpPr/>
          <p:nvPr/>
        </p:nvSpPr>
        <p:spPr>
          <a:xfrm>
            <a:off x="254160" y="1498680"/>
            <a:ext cx="86198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根据已知条件计算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单位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:cm)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已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r=5,h=5;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求圆柱的侧面积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14×5×2×5=157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平方厘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圆柱的侧面积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57 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平方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已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d=8,h=10;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求圆柱的表面积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14×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÷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2+3.14×8×10=351.68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平方厘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圆柱的表面积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51.68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平方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1050625"/>
          <p:cNvSpPr/>
          <p:nvPr/>
        </p:nvSpPr>
        <p:spPr>
          <a:xfrm>
            <a:off x="254160" y="1992240"/>
            <a:ext cx="86198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已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=18.8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h=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求圆柱的表面积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14×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8.84÷3.14÷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2+18.84×6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=169.56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平方厘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圆柱的表面积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69.56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平方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文本框 1031169"/>
          <p:cNvSpPr/>
          <p:nvPr/>
        </p:nvSpPr>
        <p:spPr>
          <a:xfrm>
            <a:off x="235080" y="1655640"/>
            <a:ext cx="86198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跳跳板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解决问题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做一个底面直径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米，高也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米的无盖圆柱形水桶，至少需要铁皮多少平方分米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14×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÷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+3.14×4×4=62.8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平方分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至少需要铁皮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2.8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平方分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文本框 1051649"/>
          <p:cNvSpPr/>
          <p:nvPr/>
        </p:nvSpPr>
        <p:spPr>
          <a:xfrm>
            <a:off x="235080" y="1930320"/>
            <a:ext cx="861984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台压路机的前轮是圆柱形，轮宽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，直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0.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。前轮转动一周，压路的面积是多少平方米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14×0.8×1.5=3.768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平方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压路的面积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768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平方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1030145"/>
          <p:cNvSpPr/>
          <p:nvPr/>
        </p:nvSpPr>
        <p:spPr>
          <a:xfrm>
            <a:off x="123840" y="2154240"/>
            <a:ext cx="86202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个圆柱，侧面展开是一个边长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2.8 c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正方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形，这个圆柱的表面积是多少平方厘米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2.8×62.8+(62.8÷3.14÷2)</a:t>
            </a:r>
            <a:r>
              <a:rPr b="1" lang="en-US" sz="22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3.14×2=4571.84(cm</a:t>
            </a:r>
            <a:r>
              <a:rPr b="1" lang="en-US" sz="22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这个圆柱的表面积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571.8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平方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文本框 1028097"/>
          <p:cNvSpPr/>
          <p:nvPr/>
        </p:nvSpPr>
        <p:spPr>
          <a:xfrm>
            <a:off x="195120" y="1469880"/>
            <a:ext cx="86202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小升初】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每个圆柱的高都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米，底面直径由下向上分别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米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米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米。求这个物体的表面积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14×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÷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÷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2=25.1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平方分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14×4×2+3.14×2×2+3.14×1×2=43.96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平方分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5.12+43.96=69.08(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平方分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这个物体的表面积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9.08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平方分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23" name="组合 1028101"/>
          <p:cNvGrpSpPr/>
          <p:nvPr/>
        </p:nvGrpSpPr>
        <p:grpSpPr>
          <a:xfrm>
            <a:off x="7242120" y="2738520"/>
            <a:ext cx="1793880" cy="2163600"/>
            <a:chOff x="7242120" y="2738520"/>
            <a:chExt cx="1793880" cy="2163600"/>
          </a:xfrm>
        </p:grpSpPr>
        <p:sp>
          <p:nvSpPr>
            <p:cNvPr id="124" name="矩形 1028100"/>
            <p:cNvSpPr/>
            <p:nvPr/>
          </p:nvSpPr>
          <p:spPr>
            <a:xfrm>
              <a:off x="7242120" y="2738520"/>
              <a:ext cx="1787400" cy="21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25" name="图片 1028102" descr=""/>
            <p:cNvPicPr/>
            <p:nvPr/>
          </p:nvPicPr>
          <p:blipFill>
            <a:blip r:embed="rId1"/>
            <a:stretch/>
          </p:blipFill>
          <p:spPr>
            <a:xfrm>
              <a:off x="7242120" y="2738520"/>
              <a:ext cx="1793880" cy="2163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377000"/>
          <p:cNvSpPr/>
          <p:nvPr/>
        </p:nvSpPr>
        <p:spPr>
          <a:xfrm>
            <a:off x="254160" y="1816200"/>
            <a:ext cx="888984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对点训练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填一填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 圆柱的侧面沿高展开后得到一个（       ），这个图形的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）相当于圆柱的（         ），这个图形的（   ）相当于圆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柱的（ 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圆柱的表面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                   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文本框 377030"/>
          <p:cNvSpPr/>
          <p:nvPr/>
        </p:nvSpPr>
        <p:spPr>
          <a:xfrm>
            <a:off x="5564520" y="2743560"/>
            <a:ext cx="683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长方形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文本框 377031"/>
          <p:cNvSpPr/>
          <p:nvPr/>
        </p:nvSpPr>
        <p:spPr>
          <a:xfrm>
            <a:off x="658440" y="3251520"/>
            <a:ext cx="348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长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文本框 377032"/>
          <p:cNvSpPr/>
          <p:nvPr/>
        </p:nvSpPr>
        <p:spPr>
          <a:xfrm>
            <a:off x="3511080" y="3251520"/>
            <a:ext cx="851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底面周长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文本框 377033"/>
          <p:cNvSpPr/>
          <p:nvPr/>
        </p:nvSpPr>
        <p:spPr>
          <a:xfrm>
            <a:off x="6855840" y="3251520"/>
            <a:ext cx="348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宽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文本框 377034"/>
          <p:cNvSpPr/>
          <p:nvPr/>
        </p:nvSpPr>
        <p:spPr>
          <a:xfrm>
            <a:off x="1229760" y="3746880"/>
            <a:ext cx="348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高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9" name="文本框 377035"/>
          <p:cNvSpPr/>
          <p:nvPr/>
        </p:nvSpPr>
        <p:spPr>
          <a:xfrm>
            <a:off x="3629160" y="4254840"/>
            <a:ext cx="2598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底面周长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高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+2×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底面面积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737282"/>
          <p:cNvSpPr/>
          <p:nvPr/>
        </p:nvSpPr>
        <p:spPr>
          <a:xfrm>
            <a:off x="254160" y="1982880"/>
            <a:ext cx="861984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个圆柱的底面周长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高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。求这个圆柱的侧面积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0×6=18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平方厘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这个圆柱的侧面积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8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平方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1012737"/>
          <p:cNvSpPr/>
          <p:nvPr/>
        </p:nvSpPr>
        <p:spPr>
          <a:xfrm>
            <a:off x="263520" y="155088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计算下面这个圆柱的表面积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92" name="图片 1012744" descr=""/>
          <p:cNvPicPr/>
          <p:nvPr/>
        </p:nvPicPr>
        <p:blipFill>
          <a:blip r:embed="rId1"/>
          <a:stretch/>
        </p:blipFill>
        <p:spPr>
          <a:xfrm>
            <a:off x="1355760" y="2346480"/>
            <a:ext cx="1649520" cy="221436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1012745"/>
          <p:cNvSpPr/>
          <p:nvPr/>
        </p:nvSpPr>
        <p:spPr>
          <a:xfrm>
            <a:off x="3232080" y="2658960"/>
            <a:ext cx="582624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14×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÷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2+3.14×4×6=100.48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平方厘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这个圆柱的表面积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00.48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平方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文本框 1024001"/>
          <p:cNvSpPr/>
          <p:nvPr/>
        </p:nvSpPr>
        <p:spPr>
          <a:xfrm>
            <a:off x="254160" y="1628640"/>
            <a:ext cx="8619840" cy="35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教材练习二</a:t>
            </a:r>
            <a:r>
              <a:rPr b="1" lang="en-US" sz="1800" spc="-1" strike="noStrike">
                <a:solidFill>
                  <a:srgbClr val="ff00ff"/>
                </a:solidFill>
                <a:latin typeface="宋体"/>
              </a:rPr>
              <a:t>P14 T7</a:t>
            </a:r>
            <a:endParaRPr b="1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用白铁皮做一根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、管口直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0.1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的圆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柱形通风管（如右图），至少需要白铁皮多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少平方米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示范解答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14×0.15×2=0.94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平方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至少需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0.94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平方米的铁皮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95" name="图片 1024006" descr=""/>
          <p:cNvPicPr/>
          <p:nvPr/>
        </p:nvPicPr>
        <p:blipFill>
          <a:blip r:embed="rId1"/>
          <a:stretch/>
        </p:blipFill>
        <p:spPr>
          <a:xfrm>
            <a:off x="6087960" y="2311560"/>
            <a:ext cx="2784600" cy="5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1025025"/>
          <p:cNvSpPr/>
          <p:nvPr/>
        </p:nvSpPr>
        <p:spPr>
          <a:xfrm>
            <a:off x="254160" y="1698480"/>
            <a:ext cx="86198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运用推理法解决圆柱的表面积问题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如图，是一整块长方形的塑料板，利用图中阴影部分刚好能做成一个圆柱形油桶（接头处忽略不计）。这个水桶的表面积是多少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97" name="组合 1025040"/>
          <p:cNvGrpSpPr/>
          <p:nvPr/>
        </p:nvGrpSpPr>
        <p:grpSpPr>
          <a:xfrm>
            <a:off x="2736720" y="3340080"/>
            <a:ext cx="3475080" cy="2286000"/>
            <a:chOff x="2736720" y="3340080"/>
            <a:chExt cx="3475080" cy="2286000"/>
          </a:xfrm>
        </p:grpSpPr>
        <p:sp>
          <p:nvSpPr>
            <p:cNvPr id="98" name="矩形 1025039"/>
            <p:cNvSpPr/>
            <p:nvPr/>
          </p:nvSpPr>
          <p:spPr>
            <a:xfrm>
              <a:off x="2736720" y="3340080"/>
              <a:ext cx="3468600" cy="22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99" name="图片 1025041" descr=""/>
            <p:cNvPicPr/>
            <p:nvPr/>
          </p:nvPicPr>
          <p:blipFill>
            <a:blip r:embed="rId1"/>
            <a:stretch/>
          </p:blipFill>
          <p:spPr>
            <a:xfrm>
              <a:off x="2736720" y="3340080"/>
              <a:ext cx="3475080" cy="228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046529"/>
          <p:cNvSpPr/>
          <p:nvPr/>
        </p:nvSpPr>
        <p:spPr>
          <a:xfrm>
            <a:off x="272880" y="1968480"/>
            <a:ext cx="86202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示范解答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油桶的底面直径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6.56÷(1+3.14)=4(dm)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油桶的高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×2=8(dm)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油桶的表面积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14×(4÷2)</a:t>
            </a:r>
            <a:r>
              <a:rPr b="1" lang="en-US" sz="22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2+3.14×4×8=125.6(dm</a:t>
            </a:r>
            <a:r>
              <a:rPr b="1" lang="en-US" sz="22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这个油桶的表面积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25.6 dm</a:t>
            </a:r>
            <a:r>
              <a:rPr b="1" lang="en-US" sz="22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1027073"/>
          <p:cNvSpPr/>
          <p:nvPr/>
        </p:nvSpPr>
        <p:spPr>
          <a:xfrm>
            <a:off x="254160" y="1284120"/>
            <a:ext cx="86198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对点训练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如图，把一个高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米，底面直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米的圆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柱从正中间切开后变成了两个完全一样的半圆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柱，你能把这个半圆柱的表面积计算出来吗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长方形的面积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×5=1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平方分米）两个半圆的面积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14×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÷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=3.1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平方分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圆柱侧面积的一半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14×2×5÷2=15.7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平方分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半圆柱的表面积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0+3.14+15.7=28.8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平方分米）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2" name="图片 1027076" descr=""/>
          <p:cNvPicPr/>
          <p:nvPr/>
        </p:nvPicPr>
        <p:blipFill>
          <a:blip r:embed="rId1"/>
          <a:stretch/>
        </p:blipFill>
        <p:spPr>
          <a:xfrm>
            <a:off x="6154560" y="1886040"/>
            <a:ext cx="279108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1014785"/>
          <p:cNvSpPr/>
          <p:nvPr/>
        </p:nvSpPr>
        <p:spPr>
          <a:xfrm>
            <a:off x="214200" y="1322280"/>
            <a:ext cx="86202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起跑线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选一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下面（  ）组图形可以拼成一个圆柱体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04" name="组合 1014804"/>
          <p:cNvGrpSpPr/>
          <p:nvPr/>
        </p:nvGrpSpPr>
        <p:grpSpPr>
          <a:xfrm>
            <a:off x="1316160" y="2967120"/>
            <a:ext cx="6454800" cy="2698560"/>
            <a:chOff x="1316160" y="2967120"/>
            <a:chExt cx="6454800" cy="2698560"/>
          </a:xfrm>
        </p:grpSpPr>
        <p:sp>
          <p:nvSpPr>
            <p:cNvPr id="105" name="矩形 1014803"/>
            <p:cNvSpPr/>
            <p:nvPr/>
          </p:nvSpPr>
          <p:spPr>
            <a:xfrm>
              <a:off x="1316160" y="2967120"/>
              <a:ext cx="6448680" cy="26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06" name="图片 1014805" descr=""/>
            <p:cNvPicPr/>
            <p:nvPr/>
          </p:nvPicPr>
          <p:blipFill>
            <a:blip r:embed="rId1"/>
            <a:stretch/>
          </p:blipFill>
          <p:spPr>
            <a:xfrm>
              <a:off x="1316160" y="2967120"/>
              <a:ext cx="6454800" cy="269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文本框 1014806"/>
          <p:cNvSpPr/>
          <p:nvPr/>
        </p:nvSpPr>
        <p:spPr>
          <a:xfrm>
            <a:off x="1663560" y="2286360"/>
            <a:ext cx="660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2T00:29:39Z</dcterms:created>
  <dc:creator>世纪金榜</dc:creator>
  <dc:description/>
  <dc:language>en-US</dc:language>
  <cp:lastModifiedBy>admin</cp:lastModifiedBy>
  <dcterms:modified xsi:type="dcterms:W3CDTF">2018-01-22T00:32:22Z</dcterms:modified>
  <cp:revision>1313</cp:revision>
  <dc:subject/>
  <dc:title>世纪金榜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  <property fmtid="{D5CDD505-2E9C-101B-9397-08002B2CF9AE}" pid="3" name="Version">
    <vt:r8>1</vt:r8>
  </property>
</Properties>
</file>